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638-C3BB-4690-87DF-72888146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DA0-CD7A-44C4-BF49-2E9FB986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D12-4940-4A67-9EAD-645D8BD4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AC9-8C6D-4A25-BF4C-5D10E04E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077-505E-40CF-9971-016F6B27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1DE-879B-4162-914F-0553C750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579-85F7-41C8-94DA-DEEEE1D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58A-34E3-40D9-9D9A-AB9B9CFC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A85-A2A0-4F51-AE6B-9EE9868F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18-385D-41DD-AFA4-328D9D92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446-6C05-4CCE-B10A-5622ED4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F47-D13E-4E38-803D-093DF37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AF6-2922-4486-B575-A153E2B815E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KTALAMA İŞARETLER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ygu ve düşünceleri daha açık ifade etmek, cümlenin yapısını ve duraklama noktalarını belirlemek, okumayı ve anlamayı kolaylaştırmak, sözün vurgu ve ton gibi özelliklerini belirtmek üzere noktalama işaretler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lanılır. Başlıca noktalama işaretleri şunlar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veya, yahut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ğlaçlarından önce de sonra d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tatürk'le iki veya üç defa karşılaştı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tekrarlı bağlaçlardan önce ve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m gider hem ağl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 bu deveyi gütmeli ya bu diyardan gitmeli.</a:t>
            </a:r>
            <a:r>
              <a:rPr b="0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ümlede pekiştirme ve bağlama görevinde kullanılan 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/ de 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ğlacından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mlamız, lisanımız düzelince lisanımız da kafamız düzelince düzelecek, çünkü o da ancak onlar kadar bozuktur, fazla değil!                                          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görevind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ç yattım mı kötü kötü rüyalar görürüm ned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zarf-fiil ekleriyle oluşturulmuş kelimeler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cak yemekte bir karara varıp arkadaşına dikkatli dikkatli bakarak konuştu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art 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 gözlerinle de aklın yatarsa anlatıver mille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LI VİRGÜL (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virgüllerle ayrılmış tür veya takımları birbirinden ayırmak için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kek çocuklara Doğan, Tuğrul, Aslan, Orhan; kız çocuklara ise İnci, Çiçek, Gönül, Yonca adları ver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ğeleri arasında virgül bulunan sıralı cümleleri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ölür, meydan kalır; yiğit ölür, şan ka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çerisinde birden fazla virgül kullanılmış cümlelerde öznenin kendinden hemen sonra gelen öğelere karışmamasını sağlama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uk; Kenan, Hulusi ve Mustafa ile yaşıt sayılı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İ NOKTA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örnek verilece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harfler alındıktan sonra eski yazı ile bir tek kelime bile yazma yan iki kişi görmüşümdür: Atatürk ve İnön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 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açıklama yapılaca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kararın istinat ettiği en kuvvetli muhakeme ve mantık şu idi: Esas, Türk milletinin haysiyetli ve şerefli bir millet olarak yaşamas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biliminde uzun ünlüyü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:ile, ka:til, usu:le, i:c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mlanmamış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çare ki çirkinliği  hemencecik ve herkes                                                                      tarafından görülüyordu da,   bu yanı…                                                                            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 sayıldığı için veya bir başka sebepten ötürü açıklanmak istenmeyen kelime ve bölümlerin yerine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avuzu karga olanın burnu b...tan çık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da; başta, ortada ve sonda alınmayan kelime ve bölümlerin yerine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derken şehrin öte başından boğuk boğuk sesler gelmeye başladı...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ün bir yerde kesilerek geri kalan bölümün okuyucunun hayal dünyasına bırakıldığını göstermek veya ifadeye güç kat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akım sorunlar, durumlar ve örnekler sayılırken daha başkaları olduğunu göstermek için kullanı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ler, arabalar, yatlar, katla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ve seslenmelerde anlamı pekişti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Koca Ali…Koca Ali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ılıklı konuşmalarda, yeterli olmayan, eksik bırakılan cevaplarda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ms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gi A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           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 yerine iki veya daha çok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İŞARETİ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bildiren cümle veya söz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zaman tükenecek bu yollar, arabacı?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ı cümleler de soru kelimesi barındırmadığı hâlde soru cümlesidir. Bunlar soru işareti ile biter. Bu cümlelerin soru anlamı vurgu ve tonlama ile belirt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şınız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 alacaktın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dü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nmeyen, kesin olmayan veya şüpheyle karşılanan yer, tarih vb. durumlar için kullanıl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1320), (Doğum yeri: ?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işleviyle kullanıldığında soru işareti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 oldu mu sürüler döner. Hava karardı mı eve gideri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fadesi taşıyan sıralı ve bağlı cümlelerde soru işareti en so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ok yakından mı bu sesler, çok uzaklardan mı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İŞARETİ (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inç, kıvanç, acı, korku, şaşma gibi duyguları anlatan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utlu Türk’üm diyene!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k olsu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lenme, hitap ve uyarı sözlerin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ular! İlk hedefiniz Akdeniz, ileri!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y, kinaye veya küçümseme anlamı kazandırılmak istenen sözden hemen sonra yay ayraç içinde ünlem işareti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 (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sonuna konur. Nokta, duraklama yapılacağını bild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 Dil Kurumu, 1932 yılında kurul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 ve sonuna nokta konulur. Buna karşılık kurum, kuruluş isimlerinin kısaltmalarında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, BM, AB</a:t>
            </a:r>
            <a:br>
              <a:rPr sz="2800"/>
            </a:b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şareti, seslenme ve hitap sözlerinden hemen sonra konulabileceği gibi cümlenin sonuna da konab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kadaş, biz bu yolda türküler tutturu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Ayrılıyor yolumuz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den sonra üç nokta yerine iki nokta konulması yeter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k ekini biçer gibi!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-360"/>
            <a:ext cx="9105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A ÇİZGİ (-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ıra sığmayan kelimeler bölünürken satır sonuna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ğuktan mı titriyordum, yoksa heyecandan, üzüntüden mi bil- 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sözleri ve ara cümleleri ayırmak için kullanıl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üçük bir sürü -dört inekle birkaç koyun- köye giren geniş yolun ağzında durmuştu.             </a:t>
            </a:r>
            <a:r>
              <a:rPr b="0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                          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kökleri ve ekleri ayırmak için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ış, dur-ak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il kök ve gövdelerini göstermek için kullanılır: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, dur-, gör-, ver-; başar-, kana-, okut-, taşla-, yazdır-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lerin başına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k, -den, -ış, -lı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eleri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-raş-tır-ma, bi-le-zi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 arasında 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e, ile, ila, arasında”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lamlarını vermek için kullanılı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-Fransızca Sözlük, Aydın-İzmir yolu, Ankara-İstanbul uçak seferleri, Türk-Alman ilişkileri, Ural-Altay dil grubu,  09.30-10.30, Beşiktaş-Fenerbahçe karşılaşması, 1914-1918 Birinci Dünya Savaşı, 2003-2004 öğretim yıl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360" y="-36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ZUN ÇİZGİ (—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Yazıda satır başına alınan konuşmaları göstermek için kullanılır. Buna </a:t>
            </a: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konuşma çizgisi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 de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rankfurt'a gelene herkesin sorduğu şud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Eski şehri gezdin m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omic Sans MS"/>
              </a:rPr>
              <a:t>    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YARI :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onuşmalar tırnak içinde verildiğinde uzun çizgi kullan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ĞİK ÇİZGİ ( /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 yana yazılması gereken durumlarda mısralar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rkma! Sönmez bu şafaklarda yüzen al sancak / Sönmeden yurdumun üstünde tüten en son ocak / O benim milletimin yıldızıdır parlayacak / O benimdir o benim milletimindir anca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                 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yazarken apartman numarası ile daire numarası arasına ve semt ile şehir arasın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ay Sokağı, Nu.: 21/6  Kurtuluş / ANK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/11/19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eklerin farklı biçimlerini göstermek için kullanılı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/-e, -an /-en, -lık /-lik, -madan /-me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NAK İŞARETİ (“ 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ka bir kimseden veya yazıdan olduğu gibi aktarılan sözler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u önderin “Ne mutlu Türk’üm diyene!” sözü her Türk'ü duyguland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olarak belirtilmek istenen sözler tırnak içine alın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bir “barış taarruzu” başlad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erisinde kitapların ve yazıların adları ve başlıkları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'in bazı şiirleri “Kendi Gök Kubbemiz” adı altında çıkt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ki alıntının sonunda bulunan işaret (nokta, soru işareti, ünlem işareti vb.) tırnak içinde kalı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ıl yaşta değil baştadır.” atasözünü duydun m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e alınan sözlerden sonra kesme işareti kullan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’in “Aziz İstanbul”unu okudunuz m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TIRNAK İŞARETİ ( ‘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verilen ve yeniden tırnağa alınması gereken bir sözü belirt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ebiyat öğretmeni “Şiirler içinde ‘Han Duvarları’ gibisi var mı?” ded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(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yapısıyla doğrudan doğruya ilgili olmayan açıklamalar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dolu kentlerini, köylerini (Köy sözünü de çekinerek yazıyorum.) gezsek bile görmek için değil, kendimizi göstermek için gezi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ın aktarıldığı eseri veya yaz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yametler koparmak neydi ey bülbül, nedir derdin?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hmet Akif Erso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115560"/>
            <a:ext cx="83516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dan sonra sıra bildirmek için nokt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, 15., 20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ekle gösterildiğinde rakamdan sonra sadece kesme işareti ve ek yazılır; ayrıca nokta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'inci değil 8'inci, 2.'nci değil 2'nc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Arka arkaya sıralandıkları için virgülle veya çizgiyle ayrılan rakamlardan  yalnızca  sonuncu  rakamdan sonra  nokta 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, 4 ve 7. madde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I – XIV. yüzyı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söze alay, kinaye veya küçümseme anlamı kazandırmak için kullanılan ünlem işareti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bilginin şüpheyle karşılandığını veya kesin olmadığını göstermek için kullanılan soru işareti de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içinde bulunan özel isimler ve yargı bildiren anlatımlar büyük harfle başlar ve sonuna uygun noktalama işareti getirili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ında açıklama yapılan söze ait ek, ayraç kapandıktan sonra yaz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’ nin eserleri okunmalı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ŞELİ AYRAÇ [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raç içinde ayraç kullanılması gereken durumlarda yay ayraçtan önce köşeli ayraç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likarnas Balıkçısı [Cevat Şakir Kabaağaçlı (1886-1973)] en güzel eserlerini Bodrum'da yazmış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e ilişkin bazı ayrıntıl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şat Nuri [Güntekin], Çalıkuşu, Dersaadet, 19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ME İŞARETİ (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a getirilen iyelik, durum ve bildirme ekleri kesme işaretiyle ayr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tih Sultan Mehmet’e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Cumhuriyeti’ni, 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h’ın, Asya’nı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mara Denizi’nden, Dolmabahçe Sarayı’nı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uk’ta, Safahat’tan, Sarıkız’ı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sonra gelen saygı sözlerine getirilen ek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hat Bey’e, Ayşe Hanım’dan, Mahmut Efendi’ye, Enver Paşa’ya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lara getirilen ekleri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'nin, TDK'nin, BM'de, ABD'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ek veya harften sonra gelen ekleri ayırmak için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'dan z'ye kadar, b'nin m'ye dönüşmesi, Türkçede -lık'la yapılmış söz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4292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ç, t, k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ünsüzlerinden biri bulun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t, Çelik, Çiçek, Halit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özel adlara ünlüyle başlayan ek getirildiğinde kesme işaretine rağme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di, Çeliği, Çiçeği, Halidi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son ses yumuşatılarak söylen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 yerin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 ve kendisinden sonra gelen ekler kesme işaretiyle ayr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urum, kuruluş, kurul ve iş yeri adların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ne, Türk Dil Kurumunda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a getirilen yapım ekleri, çokluk eki ve bunlardan sonra gelen diğer ekler kesmeyle ayrılmaz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isalı,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ürklük, Türkleşmek, Türkçü, Türkçülük, Türkç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vanlardan sonra gelen ekler kesmeyle ayr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başkanınca, Başbakanca, Türk Dil Kurumu Başkanına gör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 nokta bulunan kısaltmalarla üs işaretli kısaltmalar kesmeyle ayrılmaz. Bu tür kısaltmalarda ek noktadan ve üs işaretinden sonra,  kelimenin ve üs işaretinin okunuşuna uygun olarak yaz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leri, Alm.dan,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²y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tre kareye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kım, çağ ve dönem adlarından sonr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ki Çağın, Yükselme Dönemini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F13C-B1EF-4A76-8C94-A332C5EC653B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5.1453, 29.10.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de ay adları yazıyla da yazılabilir. Bu durumda ay adlarından önce ve sonra nokta kullanılmaz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Mayıs 1453, 29 Ekim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t ve dakika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n 09.15'te kalktı.   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in sonuna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âh Sırrı Levend, Türk Dilinde Gelişme ve Sadeleşme Evreleri, TDK Yayınları, Ankara, 196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İRGÜL (,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biri ardınca sıralanan eş görevli kelime ve kelime grupların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ırtınadan, soğuktan, karanlıktan korkar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ssiz dereler, solgun ağaçlar, sarı güll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lı cümleleri birbirinden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varmış, bir yokmuş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duk, bekledik, düşündü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un cümlelerde yüklemden uzak düşmüş olan öğeleri belirtme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ye Hanımefendi, merdivenlerde oğlunun ayak seslerini duyar duymaz, hasretlisini karşılamaya atılan bir genç kadın gibi, koltuğundan fırlamış ve ona kapıyı kendi eliyle açmaya gelmiş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                  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ara sözleri ve ara cümle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imdi, efendiler, müsaade buyurursanız, size bir sual soray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a güç kazandırmak için tekrarlanan kelimeler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, yine akşam, yine akşam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olmayan aktarma cümlelerinden sonr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ça'ya yarın gideceğim, de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ki cümleye bağlı olarak ret, kabul ve teşvik bildiren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“hayır, yok, evet, peki, pekâlâ, tamam, olur, hayhay, başüstüne, öyle, haydi, elbette”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kelimelerden sonra konur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ki, gideriz. Olur, ben de size katılırım. Hayhay, memnun oluruz. Haydi, geç kalı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kelimenin kendisinden sonra gelen kelime veya kelime gruplarıyla yapı ve anlam bakımından bağlantısı olmadığını göstermek ve anlam karışıklığını önle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gece, eğlenceleri içlerine sinmedi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p için kullanılan kelimelerden sonra konu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endiler, bilirsiniz ki hayat demek, mücadele, müsademe 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şka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gili Kardeşi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de yazar, eser, basımevi vb. maddeler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ih Rıfkı Atay, Tuna Kıyıları, Remzi Kitabevi, İstanbul, 193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7:23:39Z</dcterms:created>
  <dc:creator>pc</dc:creator>
  <dc:description/>
  <dc:language>en-US</dc:language>
  <cp:lastModifiedBy>Mehmet</cp:lastModifiedBy>
  <dcterms:modified xsi:type="dcterms:W3CDTF">2014-11-28T10:57:55Z</dcterms:modified>
  <cp:revision>43</cp:revision>
  <dc:subject/>
  <dc:title>NOKTALAMA İŞARETLERİ</dc:title>
</cp:coreProperties>
</file>